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904-8035-446F-A280-68E37EC8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9BD-BDCA-4EBB-9840-3D67896C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247-E486-489E-A1C4-B31D503C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719-60CD-4C40-B38D-2F72D9EF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637-99E1-4F11-93B6-0E46227B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923-0896-4116-B17F-B3D4A8B7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AB4-1D08-4356-AF82-29E0828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7E1-F724-414D-BBB2-F227912C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3C1-4605-4625-A134-425F2AD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928-10C4-49D0-A323-500A47E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AB3-DEB0-4047-8E8E-7080538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242-3155-413E-B8EC-73EE1E60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A6F-C413-42EB-B048-EF96969358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0"/>
            <a:ext cx="428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عالم جائ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عن مائدتي الخبز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-2319480" y="212760"/>
            <a:ext cx="13675680" cy="177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417528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سرقوا الحب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000" y="61920"/>
            <a:ext cx="4572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ثوبيَ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29T08:49:16Z</dcterms:modified>
  <cp:revision>13</cp:revision>
  <dc:subject/>
  <dc:title>PowerPoint Presentation</dc:title>
</cp:coreProperties>
</file>